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  <p:custShowLst>
    <p:custShow name="(1.1)" id="0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E71-D343-464E-91AD-BE1AF529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856-FC96-401F-A0D8-58FCA256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B69-3790-4AD0-A173-276DF704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53C-F0D9-41E9-A8FB-1BDDA3AD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5C3E-62DB-4E8C-B19C-726EF417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23AD-A32E-4F8F-930F-92D229C0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7F7D-D86F-46FF-8D8E-95195969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F5EB-A393-40AD-99A6-2214282E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4038-0841-4FF1-8587-99F55E77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18DB-C9D9-4181-A6D4-EEE1FAAE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DFC2-B585-4D3F-85CF-7AF0CB89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828-2A72-4D59-83EB-67B5CD7C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C3EB-B867-4CC3-AB0F-04D7C7D5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A910-0113-4011-BB70-A875C429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0C9B-F2C9-4DAD-9ED1-A0F73957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1434-2039-4639-A46D-A35E2521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09F8-0CA4-4D06-AD64-69728B3C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70E2-AABA-4BB0-BDD1-C7FA9569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B806F-BACB-4D84-AA79-BD12FA8F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20A8C-D660-4BAA-A51F-C0A52EA5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97ED-1B49-40C0-92D9-1068775E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DDC03-DB37-4D71-9796-8EDCD846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D52-EAC6-4206-9A2A-1FFBA51A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D6B8-E2F5-43C4-938A-AE225D3F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C852-A14E-485A-AD5C-48D90D38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A89F-B24A-4329-8023-74C3D115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7977-CF8B-4555-9544-A5142241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99CBF-2ED1-4874-82C6-C62E7D08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0809-F3A2-4AC1-8725-87DEC591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514E-9F9C-447F-ADF9-323E1854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B7AB-C4D0-427F-8FF0-8284CD7C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D1051-7BA8-41CC-ABB2-A1055336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9C4D0-1565-464B-B2DC-8D6A9B46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396-15F7-452D-A387-9568762D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1CD9C-E624-4794-8061-AF0B8A14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470C-A97B-4457-8461-7AC09597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AEF69-30C4-4F4B-B599-B054C68D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9E050-A4B3-4462-8785-56B8802C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87290-5D32-48EE-B5A0-05F9E160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3DD6E-61B5-4D25-8B9E-CA3FAF8E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11D4A-9C69-4BF1-A356-6626D90E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C013F-9F33-4281-9354-E95FD0BB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6E8ED-68D0-4554-8E6A-CE421030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8B42A-46DF-4134-AB6C-94CF876A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EBF-701D-4D7F-B38A-80D151B1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799F1-0265-403B-B3EB-90038C60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B5472-3356-4BAC-A8E7-36480ACF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6239A-A3D4-46F5-A08F-BD69F6DF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37B17-B58E-4CFB-81AF-6122C61D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6C9A0-52A1-45A6-ACF0-DA45B083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90CD2-08EB-4789-83B4-6ED88E08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85F72-F1AB-4E1E-98E2-80318B0D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B26CC-BC82-4BE3-AD8E-1EFDF625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54E0B-B99D-4F93-ACB6-C41AD4DE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6F0C0-E86B-4246-B0F9-3C509B8D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F76-E14A-4C85-BCE9-D7B814AA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14C76-70F7-40A6-BD21-DA182E76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B188C-44DC-4D45-8154-7EC59821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23236-71B5-4B06-BA39-9D966321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F0C59-714C-4DA0-9EC9-9DD84ACB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CC714-84CF-4E94-8688-18300EEE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06218-8634-4EB2-9405-137E7206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5F261-8AAA-4890-8615-7330DC9A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2B4EC-FDA8-4703-B775-C664D450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9B9CF-1C9E-43A7-89AE-80C82459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C88BF-BCCB-4BBA-89EB-79106D2F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0A1-B683-4ADD-84AE-5E9AED91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49EBF-F299-4CF7-95A3-676AF40B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50BC7-5898-4BDB-BA6F-EDE00310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04A5B-A905-4D42-AD4F-4A41EFE8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A25E8-5B0A-4920-B8E5-CB32EB8B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9FD07-7992-47E2-BCCC-CD1651B2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D26B2-CAB8-42C6-968E-9FC2BBB2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D1579-7EEE-4E6A-A0A8-1C30BF02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00865-4A0A-4C72-A92B-246915D6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15CFC-2BED-4143-A0EF-4FF67777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BF338-5AA8-4139-A60B-CF0EC6E0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598-B704-47D4-A36B-28F75E75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A8D0D-87A5-47F2-9B75-0C365350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A4BEE-668D-4E30-A462-119D25EB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39F37-C813-4EE0-97A5-3049D135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75B6B-780F-45A3-933D-F0FFB2A3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4B629-F562-48D7-8658-DD7EB5A8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D7B-0F42-4AD6-A2B6-AB0747C6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080E-89BF-46F3-88DA-2816BD160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F215-76D3-4502-9829-0C05B9AA2BA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2D20-7519-4182-B19B-6C24F25B6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2486-1AF5-41F5-8883-F1C98067AA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011C-9B03-46E1-A70D-937E413BE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078F-D588-4993-A30C-2AE2EFEED97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320A-BB58-4F54-AA9F-43A384962A3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3" descr=""/>
          <p:cNvPicPr/>
          <p:nvPr/>
        </p:nvPicPr>
        <p:blipFill>
          <a:blip r:embed="rId1"/>
          <a:stretch/>
        </p:blipFill>
        <p:spPr>
          <a:xfrm>
            <a:off x="1517760" y="4645080"/>
            <a:ext cx="6516720" cy="1841400"/>
          </a:xfrm>
          <a:prstGeom prst="rect">
            <a:avLst/>
          </a:prstGeom>
          <a:ln w="0">
            <a:noFill/>
          </a:ln>
        </p:spPr>
      </p:pic>
      <p:sp>
        <p:nvSpPr>
          <p:cNvPr id="30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76a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       </a:t>
            </a:r>
            <a:endParaRPr b="0" lang="en-US" sz="2400" spc="1" strike="noStrike">
              <a:ln w="0">
                <a:noFill/>
              </a:ln>
              <a:solidFill>
                <a:srgbClr val="0076a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argest la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Lake Vic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animal has a scre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that  sounds like laughter?</a:t>
            </a:r>
            <a:r>
              <a:rPr b="1" lang="en-US" sz="4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Hye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hottest count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Lib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smallest trib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El Mo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long is the coast lin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(in mil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18,950 mile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3236"/>
              <a:gd name="adj2" fmla="val 1277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What animal has big feet, b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has only three to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Rh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second mo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populated count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Ethio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0685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oldest trib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Bush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many different species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 </a:t>
            </a: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animals are there in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11430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animal looks lik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It has a tear mark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on its f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990720" y="3808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Cheet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228600" y="152280"/>
            <a:ext cx="167652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African Anim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2286000" y="152280"/>
            <a:ext cx="17524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African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4876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African Trib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6934320" y="152280"/>
            <a:ext cx="17524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Other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 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41"/>
          <p:cNvSpPr/>
          <p:nvPr/>
        </p:nvSpPr>
        <p:spPr>
          <a:xfrm>
            <a:off x="1447920" y="129528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fifth larges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country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Ch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argest trib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Su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big is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(in Square mil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11.7 square m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ow 1, Col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A horse like animal with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Strip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295280" y="228600"/>
            <a:ext cx="7086600" cy="4597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Ze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arges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count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Sud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838080" y="9907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What tribe  is kn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 </a:t>
            </a:r>
            <a:r>
              <a:rPr b="0" lang="en-US" sz="4000" spc="-1" strike="noStrike">
                <a:solidFill>
                  <a:srgbClr val="0d0d0d"/>
                </a:solidFill>
                <a:latin typeface="Tempus Sans ITC"/>
              </a:rPr>
              <a:t>for their mask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Bob tri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,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is the longest river 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N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11430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What animal has a big thic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man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160020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many countries 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In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empus Sans ITC"/>
              </a:rPr>
              <a:t>5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,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empus Sans ITC"/>
              </a:rPr>
              <a:t>How many tribes are in Afric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Goudy Stout"/>
              </a:rPr>
              <a:t>About  3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88303</cp:lastModifiedBy>
  <cp:lastPrinted>2001-01-31T16:21:13Z</cp:lastPrinted>
  <dcterms:modified xsi:type="dcterms:W3CDTF">2010-11-05T16:32:58Z</dcterms:modified>
  <cp:revision>9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